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056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-35712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4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88640" y="2224080"/>
            <a:ext cx="847404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88640" y="4709880"/>
            <a:ext cx="847404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4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88640" y="2224080"/>
            <a:ext cx="41353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30960" y="2224080"/>
            <a:ext cx="41353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88640" y="4709880"/>
            <a:ext cx="41353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430960" y="4709880"/>
            <a:ext cx="41353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4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8640" y="2224080"/>
            <a:ext cx="272844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53880" y="2224080"/>
            <a:ext cx="272844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19120" y="2224080"/>
            <a:ext cx="272844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88640" y="4709880"/>
            <a:ext cx="272844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953880" y="4709880"/>
            <a:ext cx="272844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819120" y="4709880"/>
            <a:ext cx="272844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4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88640" y="2224080"/>
            <a:ext cx="84740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4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88640" y="2224080"/>
            <a:ext cx="84740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4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8640" y="2224080"/>
            <a:ext cx="41353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430960" y="2224080"/>
            <a:ext cx="41353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4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-276120"/>
            <a:ext cx="8604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-2142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4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8640" y="2224080"/>
            <a:ext cx="41353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30960" y="2224080"/>
            <a:ext cx="41353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88640" y="4709880"/>
            <a:ext cx="41353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4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88640" y="2224080"/>
            <a:ext cx="41353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30960" y="2224080"/>
            <a:ext cx="41353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430960" y="4709880"/>
            <a:ext cx="41353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4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88640" y="2224080"/>
            <a:ext cx="41353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30960" y="2224080"/>
            <a:ext cx="41353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88640" y="4709880"/>
            <a:ext cx="847404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4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8640" y="2224080"/>
            <a:ext cx="84740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1480" indent="-4302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789120" indent="-432000">
              <a:lnSpc>
                <a:spcPct val="93000"/>
              </a:lnSpc>
              <a:buClr>
                <a:srgbClr val="ff9966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1077840" indent="-430200">
              <a:lnSpc>
                <a:spcPct val="93000"/>
              </a:lnSpc>
              <a:buClr>
                <a:srgbClr val="ff9966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1365120" indent="-430200">
              <a:lnSpc>
                <a:spcPct val="93000"/>
              </a:lnSpc>
              <a:buClr>
                <a:srgbClr val="ff9966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1654200" indent="-432000">
              <a:lnSpc>
                <a:spcPct val="93000"/>
              </a:lnSpc>
              <a:buClr>
                <a:srgbClr val="ff9966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1654200" indent="-432000">
              <a:lnSpc>
                <a:spcPct val="93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1654200" indent="-432000">
              <a:lnSpc>
                <a:spcPct val="93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703080" y="1260000"/>
            <a:ext cx="847692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0200" indent="-216000" algn="ctr">
              <a:lnSpc>
                <a:spcPct val="93000"/>
              </a:lnSpc>
              <a:tabLst>
                <a:tab algn="l" pos="0"/>
                <a:tab algn="l" pos="430200"/>
                <a:tab algn="l" pos="932040"/>
                <a:tab algn="l" pos="1650960"/>
                <a:tab algn="l" pos="2370240"/>
                <a:tab algn="l" pos="3089160"/>
                <a:tab algn="l" pos="3808440"/>
                <a:tab algn="l" pos="4527720"/>
                <a:tab algn="l" pos="5246640"/>
                <a:tab algn="l" pos="5965920"/>
                <a:tab algn="l" pos="6684840"/>
                <a:tab algn="l" pos="7404120"/>
                <a:tab algn="l" pos="8123400"/>
                <a:tab algn="l" pos="8842320"/>
                <a:tab algn="l" pos="9561600"/>
                <a:tab algn="l" pos="10280520"/>
                <a:tab algn="l" pos="10999800"/>
              </a:tabLst>
            </a:pPr>
            <a:r>
              <a:rPr b="0" lang="en-GB" sz="6000" spc="-1" strike="noStrike">
                <a:solidFill>
                  <a:srgbClr val="e6e6e6"/>
                </a:solidFill>
                <a:latin typeface="Times New Roman"/>
                <a:ea typeface="msmincho"/>
              </a:rPr>
              <a:t>Доброто и злото в човешкото общество</a:t>
            </a:r>
            <a:endParaRPr b="0" lang="en-US" sz="60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9600" y="0"/>
            <a:ext cx="10120320" cy="7559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6075360"/>
            <a:ext cx="10080720" cy="101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501480" indent="-430200" algn="ctr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ойто искал, човекът да не бъде щастлив и да забрави Бог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4920" y="-39600"/>
            <a:ext cx="10115640" cy="7599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882720" y="6903720"/>
            <a:ext cx="8477280" cy="6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1480" indent="-4302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И така непрестанно го изкушава..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03080" y="3484080"/>
            <a:ext cx="84769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1480" indent="-430200" algn="ctr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Arial"/>
              </a:rPr>
              <a:t>Така го изкушава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81200" y="0"/>
            <a:ext cx="2457360" cy="3419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5840" y="0"/>
            <a:ext cx="2503440" cy="3352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040360" y="0"/>
            <a:ext cx="2522520" cy="3419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7559640" y="0"/>
            <a:ext cx="2544840" cy="3419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0" y="3959280"/>
            <a:ext cx="2638440" cy="3666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2581200" y="3959280"/>
            <a:ext cx="2638440" cy="3666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5284800" y="3892680"/>
            <a:ext cx="2635200" cy="3666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6360" y="2763720"/>
            <a:ext cx="2484720" cy="476280"/>
          </a:xfrm>
          <a:prstGeom prst="rect">
            <a:avLst/>
          </a:pr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01480" indent="-430200" algn="ctr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501480"/>
                <a:tab algn="l" pos="1219320"/>
                <a:tab algn="l" pos="1938240"/>
                <a:tab algn="l" pos="2657520"/>
                <a:tab algn="l" pos="3376440"/>
                <a:tab algn="l" pos="4095720"/>
                <a:tab algn="l" pos="4815000"/>
                <a:tab algn="l" pos="5533920"/>
                <a:tab algn="l" pos="6253200"/>
                <a:tab algn="l" pos="6972480"/>
                <a:tab algn="l" pos="7691400"/>
                <a:tab algn="l" pos="8410680"/>
                <a:tab algn="l" pos="9129600"/>
                <a:tab algn="l" pos="9848880"/>
                <a:tab algn="l" pos="10568160"/>
                <a:tab algn="l" pos="112870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Да се горд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56000" y="2763720"/>
            <a:ext cx="2484360" cy="476280"/>
          </a:xfrm>
          <a:prstGeom prst="rect">
            <a:avLst/>
          </a:pr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01480" indent="-430200" algn="ctr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501480"/>
                <a:tab algn="l" pos="1219320"/>
                <a:tab algn="l" pos="1938240"/>
                <a:tab algn="l" pos="2657520"/>
                <a:tab algn="l" pos="3376440"/>
                <a:tab algn="l" pos="4095720"/>
                <a:tab algn="l" pos="4815000"/>
                <a:tab algn="l" pos="5533920"/>
                <a:tab algn="l" pos="6253200"/>
                <a:tab algn="l" pos="6972480"/>
                <a:tab algn="l" pos="7691400"/>
                <a:tab algn="l" pos="8410680"/>
                <a:tab algn="l" pos="9129600"/>
                <a:tab algn="l" pos="9848880"/>
                <a:tab algn="l" pos="10568160"/>
                <a:tab algn="l" pos="112870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Да е алч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11640" y="2763720"/>
            <a:ext cx="2484720" cy="476280"/>
          </a:xfrm>
          <a:prstGeom prst="rect">
            <a:avLst/>
          </a:pr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01480" indent="-430200" algn="ctr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501480"/>
                <a:tab algn="l" pos="1219320"/>
                <a:tab algn="l" pos="1938240"/>
                <a:tab algn="l" pos="2657520"/>
                <a:tab algn="l" pos="3376440"/>
                <a:tab algn="l" pos="4095720"/>
                <a:tab algn="l" pos="4815000"/>
                <a:tab algn="l" pos="5533920"/>
                <a:tab algn="l" pos="6253200"/>
                <a:tab algn="l" pos="6972480"/>
                <a:tab algn="l" pos="7691400"/>
                <a:tab algn="l" pos="8410680"/>
                <a:tab algn="l" pos="9129600"/>
                <a:tab algn="l" pos="9848880"/>
                <a:tab algn="l" pos="10568160"/>
                <a:tab algn="l" pos="112870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Да завиж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32720" y="2763720"/>
            <a:ext cx="2484360" cy="476280"/>
          </a:xfrm>
          <a:prstGeom prst="rect">
            <a:avLst/>
          </a:pr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01480" indent="-430200" algn="ctr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501480"/>
                <a:tab algn="l" pos="1219320"/>
                <a:tab algn="l" pos="1938240"/>
                <a:tab algn="l" pos="2657520"/>
                <a:tab algn="l" pos="3376440"/>
                <a:tab algn="l" pos="4095720"/>
                <a:tab algn="l" pos="4815000"/>
                <a:tab algn="l" pos="5533920"/>
                <a:tab algn="l" pos="6253200"/>
                <a:tab algn="l" pos="6972480"/>
                <a:tab algn="l" pos="7691400"/>
                <a:tab algn="l" pos="8410680"/>
                <a:tab algn="l" pos="9129600"/>
                <a:tab algn="l" pos="9848880"/>
                <a:tab algn="l" pos="10568160"/>
                <a:tab algn="l" pos="112870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Да се ядос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360" y="6832440"/>
            <a:ext cx="2484720" cy="679680"/>
          </a:xfrm>
          <a:prstGeom prst="rect">
            <a:avLst/>
          </a:pr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01480" indent="-430200" algn="ctr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501480"/>
                <a:tab algn="l" pos="1219320"/>
                <a:tab algn="l" pos="1938240"/>
                <a:tab algn="l" pos="2657520"/>
                <a:tab algn="l" pos="3376440"/>
                <a:tab algn="l" pos="4095720"/>
                <a:tab algn="l" pos="4815000"/>
                <a:tab algn="l" pos="5533920"/>
                <a:tab algn="l" pos="6253200"/>
                <a:tab algn="l" pos="6972480"/>
                <a:tab algn="l" pos="7691400"/>
                <a:tab algn="l" pos="8410680"/>
                <a:tab algn="l" pos="9129600"/>
                <a:tab algn="l" pos="9848880"/>
                <a:tab algn="l" pos="10568160"/>
                <a:tab algn="l" pos="112870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Да е похотли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64000" y="6867360"/>
            <a:ext cx="2484360" cy="476280"/>
          </a:xfrm>
          <a:prstGeom prst="rect">
            <a:avLst/>
          </a:pr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01480" indent="-430200" algn="ctr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501480"/>
                <a:tab algn="l" pos="1219320"/>
                <a:tab algn="l" pos="1938240"/>
                <a:tab algn="l" pos="2657520"/>
                <a:tab algn="l" pos="3376440"/>
                <a:tab algn="l" pos="4095720"/>
                <a:tab algn="l" pos="4815000"/>
                <a:tab algn="l" pos="5533920"/>
                <a:tab algn="l" pos="6253200"/>
                <a:tab algn="l" pos="6972480"/>
                <a:tab algn="l" pos="7691400"/>
                <a:tab algn="l" pos="8410680"/>
                <a:tab algn="l" pos="9129600"/>
                <a:tab algn="l" pos="9848880"/>
                <a:tab algn="l" pos="10568160"/>
                <a:tab algn="l" pos="112870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Да е ла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27640" y="6867360"/>
            <a:ext cx="2484360" cy="476280"/>
          </a:xfrm>
          <a:prstGeom prst="rect">
            <a:avLst/>
          </a:pr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01480" indent="-430200" algn="ctr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501480"/>
                <a:tab algn="l" pos="1219320"/>
                <a:tab algn="l" pos="1938240"/>
                <a:tab algn="l" pos="2657520"/>
                <a:tab algn="l" pos="3376440"/>
                <a:tab algn="l" pos="4095720"/>
                <a:tab algn="l" pos="4815000"/>
                <a:tab algn="l" pos="5533920"/>
                <a:tab algn="l" pos="6253200"/>
                <a:tab algn="l" pos="6972480"/>
                <a:tab algn="l" pos="7691400"/>
                <a:tab algn="l" pos="8410680"/>
                <a:tab algn="l" pos="9129600"/>
                <a:tab algn="l" pos="9848880"/>
                <a:tab algn="l" pos="10568160"/>
                <a:tab algn="l" pos="112870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Да е лени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5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77920" y="255600"/>
            <a:ext cx="3502080" cy="2624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615080" y="1924200"/>
            <a:ext cx="2105280" cy="3476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60360" y="3959280"/>
            <a:ext cx="2340000" cy="34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rot="3360000">
            <a:off x="-828000" y="2367720"/>
            <a:ext cx="6300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01480" indent="-430200" algn="ctr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501480"/>
                <a:tab algn="l" pos="1219320"/>
                <a:tab algn="l" pos="1938240"/>
                <a:tab algn="l" pos="2657520"/>
                <a:tab algn="l" pos="3376440"/>
                <a:tab algn="l" pos="4095720"/>
                <a:tab algn="l" pos="4815000"/>
                <a:tab algn="l" pos="5533920"/>
                <a:tab algn="l" pos="6253200"/>
                <a:tab algn="l" pos="6972480"/>
                <a:tab algn="l" pos="7691400"/>
                <a:tab algn="l" pos="8410680"/>
                <a:tab algn="l" pos="9129600"/>
                <a:tab algn="l" pos="9848880"/>
                <a:tab algn="l" pos="10568160"/>
                <a:tab algn="l" pos="11287080"/>
              </a:tabLst>
            </a:pPr>
            <a:r>
              <a:rPr b="0" lang="en-GB" sz="5400" spc="-1" strike="noStrike">
                <a:solidFill>
                  <a:srgbClr val="e6e6e6"/>
                </a:solidFill>
                <a:latin typeface="Arial"/>
              </a:rPr>
              <a:t>Изкушава го, че.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59080" y="279360"/>
            <a:ext cx="433728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01480" indent="-430200" algn="ctr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501480"/>
                <a:tab algn="l" pos="1219320"/>
                <a:tab algn="l" pos="1938240"/>
                <a:tab algn="l" pos="2657520"/>
                <a:tab algn="l" pos="3376440"/>
                <a:tab algn="l" pos="4095720"/>
                <a:tab algn="l" pos="4815000"/>
                <a:tab algn="l" pos="5533920"/>
                <a:tab algn="l" pos="6253200"/>
                <a:tab algn="l" pos="6972480"/>
                <a:tab algn="l" pos="7691400"/>
                <a:tab algn="l" pos="8410680"/>
                <a:tab algn="l" pos="9129600"/>
                <a:tab algn="l" pos="9848880"/>
                <a:tab algn="l" pos="10568160"/>
                <a:tab algn="l" pos="1128708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Arial"/>
              </a:rPr>
              <a:t>човекът винаги трябва да успокоява своите нужди,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51080" y="2908440"/>
            <a:ext cx="4337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01480" indent="-430200" algn="ctr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501480"/>
                <a:tab algn="l" pos="1219320"/>
                <a:tab algn="l" pos="1938240"/>
                <a:tab algn="l" pos="2657520"/>
                <a:tab algn="l" pos="3376440"/>
                <a:tab algn="l" pos="4095720"/>
                <a:tab algn="l" pos="4815000"/>
                <a:tab algn="l" pos="5533920"/>
                <a:tab algn="l" pos="6253200"/>
                <a:tab algn="l" pos="6972480"/>
                <a:tab algn="l" pos="7691400"/>
                <a:tab algn="l" pos="8410680"/>
                <a:tab algn="l" pos="9129600"/>
                <a:tab algn="l" pos="9848880"/>
                <a:tab algn="l" pos="10568160"/>
                <a:tab algn="l" pos="1128708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Arial"/>
              </a:rPr>
              <a:t>властването над другите ще осигури неговото бъдеще,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35080" y="5896080"/>
            <a:ext cx="6029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01480" indent="-430200" algn="ctr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501480"/>
                <a:tab algn="l" pos="1219320"/>
                <a:tab algn="l" pos="1938240"/>
                <a:tab algn="l" pos="2657520"/>
                <a:tab algn="l" pos="3376440"/>
                <a:tab algn="l" pos="4095720"/>
                <a:tab algn="l" pos="4815000"/>
                <a:tab algn="l" pos="5533920"/>
                <a:tab algn="l" pos="6253200"/>
                <a:tab algn="l" pos="6972480"/>
                <a:tab algn="l" pos="7691400"/>
                <a:tab algn="l" pos="8410680"/>
                <a:tab algn="l" pos="9129600"/>
                <a:tab algn="l" pos="9848880"/>
                <a:tab algn="l" pos="10568160"/>
                <a:tab algn="l" pos="1128708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Arial"/>
              </a:rPr>
              <a:t>злото в света е толкова мощно, че няма смисъл да се грижи, дори да живе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5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5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82720" y="2087280"/>
            <a:ext cx="8477280" cy="18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1480" indent="-430200" algn="ctr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Arial"/>
              </a:rPr>
              <a:t>Настъпи един момент, когато Бог е поискал да освободи човека от греха, от изкусителя и да му върне неговата значимост, значимостта на Божие дете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-4680" y="0"/>
            <a:ext cx="10085400" cy="7559640"/>
            <a:chOff x="-4680" y="0"/>
            <a:chExt cx="10085400" cy="755964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954600" y="0"/>
              <a:ext cx="6126120" cy="75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-4680" y="0"/>
              <a:ext cx="5759280" cy="755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"/>
          <p:cNvSpPr/>
          <p:nvPr/>
        </p:nvSpPr>
        <p:spPr>
          <a:xfrm>
            <a:off x="1079640" y="6288120"/>
            <a:ext cx="7920000" cy="911160"/>
          </a:xfrm>
          <a:prstGeom prst="rect">
            <a:avLst/>
          </a:prstGeom>
          <a:solidFill>
            <a:srgbClr val="7e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01480" indent="-430200" algn="ctr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501480"/>
                <a:tab algn="l" pos="1219320"/>
                <a:tab algn="l" pos="1938240"/>
                <a:tab algn="l" pos="2657520"/>
                <a:tab algn="l" pos="3376440"/>
                <a:tab algn="l" pos="4095720"/>
                <a:tab algn="l" pos="4815000"/>
                <a:tab algn="l" pos="5533920"/>
                <a:tab algn="l" pos="6253200"/>
                <a:tab algn="l" pos="6972480"/>
                <a:tab algn="l" pos="7691400"/>
                <a:tab algn="l" pos="8410680"/>
                <a:tab algn="l" pos="9129600"/>
                <a:tab algn="l" pos="9848880"/>
                <a:tab algn="l" pos="10568160"/>
                <a:tab algn="l" pos="1128708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Arial"/>
              </a:rPr>
              <a:t>Дойде да ни покаже, колко ни обича, какво е готов да понесе заради на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47600" y="0"/>
            <a:ext cx="6583680" cy="75596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619280"/>
            <a:ext cx="10080720" cy="511344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501480" indent="-430200" algn="ctr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6000" spc="-1" strike="noStrike">
                <a:solidFill>
                  <a:srgbClr val="e6e6e6"/>
                </a:solidFill>
                <a:latin typeface="Arial"/>
              </a:rPr>
              <a:t>Историята в борбата между доброто и злото продължава, но вече имаме начин как да победим злото. Какво е това?</a:t>
            </a:r>
            <a:endParaRPr b="0" lang="en-US" sz="6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10080720" cy="7559640"/>
          </a:xfrm>
          <a:custGeom>
            <a:avLst/>
            <a:gdLst>
              <a:gd name="textAreaLeft" fmla="*/ 2369160 w 10080720"/>
              <a:gd name="textAreaRight" fmla="*/ 7704720 w 10080720"/>
              <a:gd name="textAreaTop" fmla="*/ 888840 h 7559640"/>
              <a:gd name="textAreaBottom" fmla="*/ 4741920 h 755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00360" y="971640"/>
            <a:ext cx="4680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Verdana"/>
              </a:rPr>
              <a:t>Люб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689280" y="1795320"/>
            <a:ext cx="2702160" cy="3426120"/>
            <a:chOff x="3689280" y="1795320"/>
            <a:chExt cx="2702160" cy="3426120"/>
          </a:xfrm>
        </p:grpSpPr>
        <p:sp>
          <p:nvSpPr>
            <p:cNvPr id="109" name=""/>
            <p:cNvSpPr/>
            <p:nvPr/>
          </p:nvSpPr>
          <p:spPr>
            <a:xfrm>
              <a:off x="3689280" y="1800360"/>
              <a:ext cx="1800" cy="3060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89280" y="5219640"/>
              <a:ext cx="270036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6389640" y="1795320"/>
              <a:ext cx="1800" cy="3067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900000" y="2160720"/>
            <a:ext cx="251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Бог към чове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5508720"/>
            <a:ext cx="298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Човек към чове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32720" y="2160720"/>
            <a:ext cx="2519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Човек към Бог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9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640" y="2224080"/>
            <a:ext cx="9025200" cy="15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1480" indent="-4302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И видя Бог, че това е добро...“ (Бит. 1,31)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1480" indent="-4302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Бог пожела творението като дар за човека, като наследство, което му е поверено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 rot="20580000">
            <a:off x="723600" y="5400000"/>
            <a:ext cx="84772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1480" indent="-4302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Arial"/>
              </a:rPr>
              <a:t>Човек сътворен „по Божий образ“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-360360" y="85680"/>
            <a:ext cx="5759280" cy="3695760"/>
            <a:chOff x="-360360" y="85680"/>
            <a:chExt cx="5759280" cy="3695760"/>
          </a:xfrm>
        </p:grpSpPr>
        <p:sp>
          <p:nvSpPr>
            <p:cNvPr id="48" name=""/>
            <p:cNvSpPr/>
            <p:nvPr/>
          </p:nvSpPr>
          <p:spPr>
            <a:xfrm>
              <a:off x="546120" y="431640"/>
              <a:ext cx="3579840" cy="29768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90680" y="1735200"/>
              <a:ext cx="1893960" cy="1673280"/>
            </a:xfrm>
            <a:custGeom>
              <a:avLst/>
              <a:gdLst>
                <a:gd name="textAreaLeft" fmla="*/ 444960 w 1893960"/>
                <a:gd name="textAreaRight" fmla="*/ 1447560 w 1893960"/>
                <a:gd name="textAreaTop" fmla="*/ 196560 h 1673280"/>
                <a:gd name="textAreaBottom" fmla="*/ 1049760 h 1673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9" y="5766"/>
                    <a:pt x="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24040" y="85680"/>
              <a:ext cx="119376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17480"/>
                  <a:tab algn="l" pos="1436760"/>
                  <a:tab algn="l" pos="2155680"/>
                  <a:tab algn="l" pos="2874960"/>
                  <a:tab algn="l" pos="3594240"/>
                  <a:tab algn="l" pos="4313160"/>
                  <a:tab algn="l" pos="5032440"/>
                  <a:tab algn="l" pos="5751360"/>
                  <a:tab algn="l" pos="6470640"/>
                  <a:tab algn="l" pos="7189920"/>
                  <a:tab algn="l" pos="7908840"/>
                  <a:tab algn="l" pos="8628120"/>
                  <a:tab algn="l" pos="9347040"/>
                  <a:tab algn="l" pos="10066320"/>
                  <a:tab algn="l" pos="107856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Отец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360360" y="3262320"/>
              <a:ext cx="11937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17480"/>
                  <a:tab algn="l" pos="1436760"/>
                  <a:tab algn="l" pos="2155680"/>
                  <a:tab algn="l" pos="2874960"/>
                  <a:tab algn="l" pos="3594240"/>
                  <a:tab algn="l" pos="4313160"/>
                  <a:tab algn="l" pos="5032440"/>
                  <a:tab algn="l" pos="5751360"/>
                  <a:tab algn="l" pos="6470640"/>
                  <a:tab algn="l" pos="7189920"/>
                  <a:tab algn="l" pos="7908840"/>
                  <a:tab algn="l" pos="8628120"/>
                  <a:tab algn="l" pos="9347040"/>
                  <a:tab algn="l" pos="10066320"/>
                  <a:tab algn="l" pos="107856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Син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125960" y="3262320"/>
              <a:ext cx="1272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17480"/>
                  <a:tab algn="l" pos="1436760"/>
                  <a:tab algn="l" pos="2155680"/>
                  <a:tab algn="l" pos="2874960"/>
                  <a:tab algn="l" pos="3594240"/>
                  <a:tab algn="l" pos="4313160"/>
                  <a:tab algn="l" pos="5032440"/>
                  <a:tab algn="l" pos="5751360"/>
                  <a:tab algn="l" pos="6470640"/>
                  <a:tab algn="l" pos="7189920"/>
                  <a:tab algn="l" pos="7908840"/>
                  <a:tab algn="l" pos="8628120"/>
                  <a:tab algn="l" pos="9347040"/>
                  <a:tab algn="l" pos="10066320"/>
                  <a:tab algn="l" pos="107856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Светия Ду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82800" y="1095480"/>
              <a:ext cx="8604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17480"/>
                  <a:tab algn="l" pos="1436760"/>
                  <a:tab algn="l" pos="2155680"/>
                  <a:tab algn="l" pos="2874960"/>
                  <a:tab algn="l" pos="3594240"/>
                  <a:tab algn="l" pos="4313160"/>
                  <a:tab algn="l" pos="5032440"/>
                  <a:tab algn="l" pos="5751360"/>
                  <a:tab algn="l" pos="6470640"/>
                  <a:tab algn="l" pos="7189920"/>
                  <a:tab algn="l" pos="7908840"/>
                  <a:tab algn="l" pos="8628120"/>
                  <a:tab algn="l" pos="9347040"/>
                  <a:tab algn="l" pos="10066320"/>
                  <a:tab algn="l" pos="107856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БОГ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920000" y="1800360"/>
            <a:ext cx="1847880" cy="3958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640720" y="2879640"/>
            <a:ext cx="360360" cy="360360"/>
          </a:xfrm>
          <a:custGeom>
            <a:avLst/>
            <a:gdLst>
              <a:gd name="textAreaLeft" fmla="*/ 84600 w 360360"/>
              <a:gd name="textAreaRight" fmla="*/ 275400 w 360360"/>
              <a:gd name="textAreaTop" fmla="*/ 42120 h 360360"/>
              <a:gd name="textAreaBottom" fmla="*/ 226080 h 36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219640" y="539640"/>
            <a:ext cx="2519280" cy="3192480"/>
            <a:chOff x="5219640" y="539640"/>
            <a:chExt cx="2519280" cy="3192480"/>
          </a:xfrm>
        </p:grpSpPr>
        <p:sp>
          <p:nvSpPr>
            <p:cNvPr id="57" name=""/>
            <p:cNvSpPr/>
            <p:nvPr/>
          </p:nvSpPr>
          <p:spPr>
            <a:xfrm>
              <a:off x="5400720" y="2879640"/>
              <a:ext cx="1979640" cy="8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17480"/>
                  <a:tab algn="l" pos="1436760"/>
                  <a:tab algn="l" pos="2155680"/>
                  <a:tab algn="l" pos="2874960"/>
                  <a:tab algn="l" pos="3594240"/>
                  <a:tab algn="l" pos="4313160"/>
                  <a:tab algn="l" pos="5032440"/>
                  <a:tab algn="l" pos="5751360"/>
                  <a:tab algn="l" pos="6470640"/>
                  <a:tab algn="l" pos="7189920"/>
                  <a:tab algn="l" pos="7908840"/>
                  <a:tab algn="l" pos="8628120"/>
                  <a:tab algn="l" pos="9347040"/>
                  <a:tab algn="l" pos="10066320"/>
                  <a:tab algn="l" pos="10785600"/>
                </a:tabLst>
              </a:pPr>
              <a:r>
                <a:rPr b="0" lang="en-GB" sz="60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19640" y="539640"/>
              <a:ext cx="2519280" cy="1260720"/>
            </a:xfrm>
            <a:prstGeom prst="wedgeRectCallout">
              <a:avLst>
                <a:gd name="adj1" fmla="val -3236"/>
                <a:gd name="adj2" fmla="val 135259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17480"/>
                  <a:tab algn="l" pos="1436760"/>
                  <a:tab algn="l" pos="2155680"/>
                  <a:tab algn="l" pos="2874960"/>
                  <a:tab algn="l" pos="3594240"/>
                  <a:tab algn="l" pos="4313160"/>
                  <a:tab algn="l" pos="5032440"/>
                  <a:tab algn="l" pos="5751360"/>
                  <a:tab algn="l" pos="6470640"/>
                  <a:tab algn="l" pos="7189920"/>
                  <a:tab algn="l" pos="7908840"/>
                  <a:tab algn="l" pos="8628120"/>
                  <a:tab algn="l" pos="9347040"/>
                  <a:tab algn="l" pos="10066320"/>
                  <a:tab algn="l" pos="107856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Имаме същото сърце като Бог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1006812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63440" y="6183000"/>
            <a:ext cx="84772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1480" indent="-430200" algn="ctr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Човекът бе безкрайно щастлив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9640" y="2879280"/>
            <a:ext cx="84772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1480" indent="-430200" algn="ctr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4400" spc="-1" strike="noStrike">
                <a:solidFill>
                  <a:srgbClr val="e6e6e6"/>
                </a:solidFill>
                <a:latin typeface="Arial"/>
              </a:rPr>
              <a:t>Докато не е поискал нещо, което не му е принадлежало.</a:t>
            </a:r>
            <a:endParaRPr b="0" lang="en-US" sz="44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94036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17520" y="1900080"/>
            <a:ext cx="9180360" cy="3600720"/>
          </a:xfrm>
          <a:prstGeom prst="rect">
            <a:avLst/>
          </a:prstGeom>
          <a:solidFill>
            <a:srgbClr val="8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Verdana"/>
              </a:rPr>
              <a:t>Поискал да стане Бог, противопоставил се на Бога и заради това е загубил щастието и в живота му навлезе злото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9640" y="2889360"/>
            <a:ext cx="847728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1480" indent="-430200" algn="ctr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4400" spc="-1" strike="noStrike">
                <a:solidFill>
                  <a:srgbClr val="e6e6e6"/>
                </a:solidFill>
                <a:latin typeface="Arial"/>
              </a:rPr>
              <a:t>Човекът е започнал да се чувства самотен и да се страхува.</a:t>
            </a:r>
            <a:endParaRPr b="0" lang="en-US" sz="44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03080" y="6734160"/>
            <a:ext cx="847692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1480" indent="-430200" algn="ctr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Да убива и да води войни.</a:t>
            </a:r>
            <a:endParaRPr b="0" lang="en-US" sz="48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79280" y="0"/>
            <a:ext cx="1026000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20720" y="2223720"/>
            <a:ext cx="8477280" cy="911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501480" indent="-430200" algn="ctr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а унижава другите или да бъде унижаван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74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6300720" cy="75549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618920" y="604440"/>
            <a:ext cx="6119640" cy="2500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501480" indent="-430200" algn="ctr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В основата на злото стои изкусител, който изкушава хората....</a:t>
            </a:r>
            <a:endParaRPr b="0" lang="en-US" sz="44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Uvedení vývoje a alternativ, doporučení jedné nebo více strategií</dc:description>
  <dc:language>en-US</dc:language>
  <cp:lastModifiedBy/>
  <cp:revision>0</cp:revision>
  <dc:subject/>
  <dc:title>Doporučení strategie</dc:title>
</cp:coreProperties>
</file>